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19716"/>
        <c:axId val="21235672"/>
      </c:barChart>
      <c:catAx>
        <c:axId val="75619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35672"/>
        <c:crosses val="autoZero"/>
        <c:auto val="1"/>
        <c:lblAlgn val="ctr"/>
        <c:lblOffset val="100"/>
        <c:noMultiLvlLbl val="0"/>
      </c:catAx>
      <c:valAx>
        <c:axId val="21235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19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9F0-3684-4C18-B96B-BE520194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333-0534-4897-84EE-E12BE768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976-8A3C-476C-99A7-CDD5BEF2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E7A-73D0-4213-9634-401BCE10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A28-DF79-4A72-B77A-1737EA37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80E-8A4B-4BE4-BC7F-D2F78B4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7A1-F43F-4289-8A94-20D9AEB1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0D6-36E5-467F-A26B-79866760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B05-6CDD-4971-8D4F-C8602C1C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A41-F84F-4961-9E4C-F81CB56C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993-E9CB-4D95-AB41-343C9ABD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649-55B5-435F-AF34-7C081F3E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7784A-D43A-4B76-A197-AED589B714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