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31878"/>
        <c:axId val="66807613"/>
      </c:barChart>
      <c:catAx>
        <c:axId val="80731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7613"/>
        <c:crosses val="autoZero"/>
        <c:auto val="1"/>
        <c:lblAlgn val="ctr"/>
        <c:lblOffset val="100"/>
        <c:noMultiLvlLbl val="0"/>
      </c:catAx>
      <c:valAx>
        <c:axId val="66807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1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F0A-10BD-4F81-AF59-0307B7D1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316-DB51-4768-B6E2-AB6F52B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5AA-8A23-4E12-B19F-43865475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6EC-C530-4F6B-910D-8A5A88D4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B8B-FD5E-4664-83F5-5E514C5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A7A-44CA-41C4-9678-0B094908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0E8-C051-4178-86CC-0A09A83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231-060B-4123-A9CC-F39A351D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039-CE54-4D40-B3DB-2191B7C7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00F-CC9D-4E4B-B5B1-885FC07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87F-FEB2-437E-BD1F-C2DB550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7F3-DB09-43CC-8E44-E3C29CA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9A65C-ED0A-4371-88BD-8999562FD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