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6511"/>
        <c:axId val="10044907"/>
      </c:barChart>
      <c:catAx>
        <c:axId val="55165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44907"/>
        <c:crosses val="autoZero"/>
        <c:auto val="1"/>
        <c:lblAlgn val="ctr"/>
        <c:lblOffset val="100"/>
        <c:noMultiLvlLbl val="0"/>
      </c:catAx>
      <c:valAx>
        <c:axId val="10044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65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9D7-82D8-441C-BD23-3F0CD46C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3D2A-9E35-470E-8314-99FC2D2F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BB7-519D-4A77-85E1-D32B449E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448-E02A-4A46-9705-FE5777B4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68F-DB99-41E1-8B61-AAC51FE7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213-471E-45AD-97DC-B164E2AC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9E8-8854-468C-86A5-E0B47C63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1214-BBB5-4A8E-B190-01E40805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E4B-1EA5-4A4B-8FE9-159323D9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4D5-9B5E-476C-9216-402F76CD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48B-7F62-4E41-871E-84485286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D25-E97E-4F82-996A-0DC8A678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B1B9C-D0B3-44A6-8403-1E17F00D07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