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61546"/>
        <c:axId val="14928246"/>
      </c:barChart>
      <c:catAx>
        <c:axId val="555615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28246"/>
        <c:crosses val="autoZero"/>
        <c:auto val="1"/>
        <c:lblAlgn val="ctr"/>
        <c:lblOffset val="100"/>
        <c:noMultiLvlLbl val="0"/>
      </c:catAx>
      <c:valAx>
        <c:axId val="14928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615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29A-D438-43FC-8671-C11FC3B9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EA7-65F8-4B73-902F-8941B12C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6B1-0947-4A87-A8BE-0B6EF67C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58E-352D-4044-9D76-0EB080D1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E7A-C5DC-41FA-8014-2299415A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A22-D391-4229-B50E-1FE7E399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57A-B6D0-4F7B-B71D-9EA53694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6C3-8127-4A7C-9447-248ADAB0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38D-EA0E-473B-9C5A-54C369F4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5D5-FB9F-44FE-B50F-5970FB39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7A0-BFCB-4268-829D-FC455CA8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416-0366-4B3B-BAAE-E2D16B6B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DE1D1-1D89-4C01-9A2B-C92A3D0C7E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