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79973"/>
        <c:axId val="41713804"/>
      </c:barChart>
      <c:catAx>
        <c:axId val="12679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13804"/>
        <c:crosses val="autoZero"/>
        <c:auto val="1"/>
        <c:lblAlgn val="ctr"/>
        <c:lblOffset val="100"/>
        <c:noMultiLvlLbl val="0"/>
      </c:catAx>
      <c:valAx>
        <c:axId val="41713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79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D65-309B-4385-94AA-98CEDC43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B62-79A5-498B-840A-514E9AB0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117-E644-4C8D-9AE1-32CCA4B8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C2F-FD3A-444C-8931-5D7FDDBF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647-4A90-4426-999D-D2EBDCF6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10B-6A10-43DC-ABAF-7825C401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065-97FC-4488-B640-7CF2DCBC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72E-8DE1-4B74-BC06-EFAF858B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C94-8485-4E7A-948C-D1F395CC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DCEE-19A6-4CEF-8569-696A68C4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92A-6F13-45D3-9F60-AA7AEB0F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6C4-C4F0-48BD-BD6C-FDDA739A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4A4A5-2F46-41A8-BC33-A96B8E78B0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