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736724"/>
        <c:axId val="19000745"/>
      </c:barChart>
      <c:catAx>
        <c:axId val="72736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00745"/>
        <c:crosses val="autoZero"/>
        <c:auto val="1"/>
        <c:lblAlgn val="ctr"/>
        <c:lblOffset val="100"/>
        <c:noMultiLvlLbl val="0"/>
      </c:catAx>
      <c:valAx>
        <c:axId val="19000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36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AD00-C30A-4A0E-967A-467855FF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7C30-1A22-4043-8B14-4A992113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617-1BCB-407D-9848-8CEF630A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121-3AD2-488B-B285-4D247C48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A1D-5AF1-4C23-A958-9B24F674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1985-73EA-4584-A380-1FFAAF88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44C-DAB6-401B-B37E-2ECF318D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20A-0888-4CC7-9917-5A109015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7B9A-DA0A-40BD-9254-ACB5906C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CB16-446F-4C82-AC4B-6139CCA7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9C7-5C72-44A6-A345-1C467F4E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32CA-788D-4B37-9906-1855D52C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4E37C-4508-4B0F-8C24-C54840F1B4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