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8495009"/>
        <c:axId val="17698313"/>
      </c:barChart>
      <c:catAx>
        <c:axId val="4849500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698313"/>
        <c:crosses val="autoZero"/>
        <c:auto val="1"/>
        <c:lblAlgn val="ctr"/>
        <c:lblOffset val="100"/>
        <c:noMultiLvlLbl val="0"/>
      </c:catAx>
      <c:valAx>
        <c:axId val="1769831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49500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DF30-DDA8-4AF1-818B-38FFC9925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08A9-10E5-426B-905D-54B5BFA69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95EC-363A-4748-B7A8-D310FE2D6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EC20-520F-468D-BA06-A89A357A1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A768-CC76-4613-B19A-964CAAD0D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1357-3A0A-4E46-ADC9-0548D19F5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AEBD-4A38-436A-9719-0832621F5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B8DF-9869-422C-82F6-41B0B59B6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37E0-09B1-475F-A159-6F140E7BA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69C9-248E-4AEC-BB4A-00F083BE8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6095-E047-45B9-ACDA-AF9FE2FFB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D4F3-1901-46F1-BC6F-6C1115B48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88161F-7957-4843-8A5A-A3715E50E90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