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45130"/>
        <c:axId val="85715348"/>
      </c:barChart>
      <c:catAx>
        <c:axId val="4334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15348"/>
        <c:crosses val="autoZero"/>
        <c:auto val="1"/>
        <c:lblAlgn val="ctr"/>
        <c:lblOffset val="100"/>
        <c:noMultiLvlLbl val="0"/>
      </c:catAx>
      <c:valAx>
        <c:axId val="85715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5F7-F851-4943-9B57-0488D060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4A3-77EA-4112-9916-3F58CEA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FBE-916B-4C9E-B0B1-3980391D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4A7-687E-4261-94E6-0B55822B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5DE-715C-4622-A548-0084DF0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FBA-6E01-4AD5-9A69-7CF0A493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6DC-BA53-4BAB-99F4-AEB7463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A1D-57C2-4883-AFC6-BC16AABE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72B-295B-4D17-85B1-A46A167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2B0-DDEE-4FAD-8BC5-430FCD5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BB1-EB2F-4D75-8076-7FA6DEE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3E3-B750-4D24-90E1-54AF55C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C8D3-DAF9-4E87-8C61-4D09F09BF3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