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549382"/>
        <c:axId val="71786276"/>
      </c:barChart>
      <c:catAx>
        <c:axId val="225493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786276"/>
        <c:crosses val="autoZero"/>
        <c:auto val="1"/>
        <c:lblAlgn val="ctr"/>
        <c:lblOffset val="100"/>
        <c:noMultiLvlLbl val="0"/>
      </c:catAx>
      <c:valAx>
        <c:axId val="717862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5493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3220-C464-4174-84F9-49E734D38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26A9-8CFE-48DD-9520-9C9252A2C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A3D8-39F4-44D0-80E0-55F681CDE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4E28-5B41-494F-8580-B9BB8FE19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90E2-0103-467D-A9AC-CE3B313D8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2C7A-70DF-463A-B29C-FF5EA79D9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E415-2815-45EE-B0DE-397A6B318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AC63-26B0-4AF3-A124-882C02CAA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D30D-CD6A-4EAF-BAC1-4EC9DF1ED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C023-99B3-4543-8608-E246D6B4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AA34-7980-48F7-83D8-3F44573C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1055-0393-4FD4-BCFA-F06EA711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08BAD5-EAD1-42D4-BF3D-9D7B5042047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