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91093"/>
        <c:axId val="44114874"/>
      </c:barChart>
      <c:catAx>
        <c:axId val="47891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4874"/>
        <c:crosses val="autoZero"/>
        <c:auto val="1"/>
        <c:lblAlgn val="ctr"/>
        <c:lblOffset val="100"/>
        <c:noMultiLvlLbl val="0"/>
      </c:catAx>
      <c:valAx>
        <c:axId val="44114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1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330-F8EC-4D0B-A25E-A3726D4E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E52-C20E-4905-BB67-97D1049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2E3-17C5-455B-B63C-E33D2528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E3A-CD1B-4A06-B57B-24FC90E9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8AC-43AC-4D24-A968-298BF4A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FD8-AE63-4E30-B9BD-D9926F5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654-9AAF-4144-BB0E-3108A15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29A-7B9F-41F2-9413-95537B4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898-2E3C-4CB2-8BF0-86A8AEFC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195-59D2-4532-BF99-0314363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7A2-91BF-47BD-82CE-1DAC565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DCC-C4E2-41B5-A11C-3FC42D2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D1821-506A-4E86-8393-8036F71BD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